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8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2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29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11.png" ContentType="image/png"/>
  <Override PartName="/ppt/media/image48.png" ContentType="image/png"/>
  <Override PartName="/ppt/media/image60.png" ContentType="image/png"/>
  <Override PartName="/ppt/media/image2.png" ContentType="image/png"/>
  <Override PartName="/ppt/media/image14.png" ContentType="image/png"/>
  <Override PartName="/ppt/media/image10.jpeg" ContentType="image/jpeg"/>
  <Override PartName="/ppt/media/image49.png" ContentType="image/png"/>
  <Override PartName="/ppt/media/image12.png" ContentType="image/png"/>
  <Override PartName="/ppt/media/image22.png" ContentType="image/png"/>
  <Override PartName="/ppt/media/image24.jpeg" ContentType="image/jpeg"/>
  <Override PartName="/ppt/media/image66.jpeg" ContentType="image/jpeg"/>
  <Override PartName="/ppt/media/image59.png" ContentType="image/png"/>
  <Override PartName="/ppt/media/image61.png" ContentType="image/png"/>
  <Override PartName="/ppt/media/image21.jpeg" ContentType="image/jpeg"/>
  <Override PartName="/ppt/media/image65.png" ContentType="image/png"/>
  <Override PartName="/ppt/media/image6.png" ContentType="image/png"/>
  <Override PartName="/ppt/media/image36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13.png" ContentType="image/png"/>
  <Override PartName="/ppt/media/image39.png" ContentType="image/png"/>
  <Override PartName="/ppt/media/image23.jpeg" ContentType="image/jpeg"/>
  <Override PartName="/ppt/media/image8.png" ContentType="image/png"/>
  <Override PartName="/ppt/media/image42.wmf" ContentType="image/x-wmf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9925050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925200" cy="67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2000" cy="338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5624640" y="-360"/>
            <a:ext cx="4300560" cy="338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3270240" y="509400"/>
            <a:ext cx="3387600" cy="254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93600" y="3220920"/>
            <a:ext cx="7940880" cy="3052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6441840"/>
            <a:ext cx="4302000" cy="338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5624640" y="6441840"/>
            <a:ext cx="4300560" cy="338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9680-923E-4379-851B-52EE828E42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3270240" y="509760"/>
            <a:ext cx="3387600" cy="25412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93600" y="3220920"/>
            <a:ext cx="794088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Номер слайда 3"/>
          <p:cNvSpPr/>
          <p:nvPr/>
        </p:nvSpPr>
        <p:spPr>
          <a:xfrm>
            <a:off x="5624640" y="6442200"/>
            <a:ext cx="4300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1C66-EF6C-4544-8221-E4E29D8B4A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8B6-63D2-4738-BD38-D10077F1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84E-93AA-4316-B222-054FA1FE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6F507-36BD-426A-8F16-F94F1FE4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F8DC2-1CAA-446A-A998-55F285CE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B2626-8588-400F-84E5-5825D4AD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6470C-9CB6-4462-A940-16E11389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614A4-1163-405C-ACB1-9FC17D09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A3B05-64EF-4951-8DAD-BC0024C2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8A5B9-6162-42C1-85E6-082DF13C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2EE97-E373-45CC-AAA5-FB0FF043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EC895-C2C5-4027-814D-03CB8BB7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D3DBE-BFC4-425A-933B-527B6A8B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DB2-3555-428F-B0A4-E2EBDF58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387F0-1C04-43B8-B385-24CED5F9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D934B-5D2F-4BF5-9FC4-9F0103E7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2D968-D2FA-41E3-8017-54D3978C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8B821-D6DC-4B23-851E-5C191667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9B162-1FA9-42EC-B8FB-746F405E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111DD-13EC-4F34-9B86-9FA87813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8ED77-194D-4C31-8DD1-1C9B2AED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0A2C5-0C25-4E62-B827-A3CEC063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9ACE7-71E6-44FE-82A6-6CEF5812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45C65-D17B-416A-B041-F784A807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4E2-1DAA-4214-976E-7F6FC2BB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79D4C-6AA6-45ED-A32B-EC2650CC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05705-B91D-4F32-A985-B3F16AB5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B8160-924C-42C7-A30F-BAD4FF75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8BDE7-C0BB-45C8-8C15-088C094D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70E65-B830-42EC-BE03-C2469C51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049F9-7B5A-42ED-8C16-27EA596F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A81DC-7040-43F9-A48C-87EEC594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7CD90-48BD-4976-9199-30994A95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7802A-0A33-44C2-B6C5-0B532887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A6DF0-4B14-49EC-B199-1527A0C0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B1D1-C79A-4CBF-8037-C432B824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1D577-4F40-4F29-98FE-CF6A763E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FEDC8-2053-4844-A687-51353BDC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9B2B4-0724-4416-87D0-22A7A619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3999A-2185-4362-A950-A967ACB8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BBDD0-AF36-4458-9931-4CF786A3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51CD9-CB0E-4E73-9C30-CE459501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7378D-3177-4A17-A5EE-777EA085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E14A8-650E-4C59-BCE3-0BA08EC5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28E7C-B67D-4CA5-9757-7A0E3C99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1E43F-5E4D-41A5-9E6C-8D5192CC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F641-EAF9-486E-A0B1-610402E3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38E5F-EB03-41A4-81A6-C196563B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924F7-EE14-42B9-B455-606A40C4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670B2-AF28-4C1A-A164-4CF72A38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74B70-D869-446D-987C-298A87F6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7BE04-8DF9-4000-AB21-6AE660CD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49B5-F944-4130-BE85-BA20C9F8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C9B2-8B98-4C2B-9781-E5A149D6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E942-D4E9-4C9B-B44D-1F36F2E6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E984-2465-4580-B5A1-55C3DEE5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D6AA-5847-471A-8FE4-08375E87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904-23B1-4A61-9B8A-F675B12F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333D-0E6E-467A-8EAD-D66EC786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019D-267E-42C9-B6B0-6C7D8061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B81B-8B5F-439B-8A1D-D8805B56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A433-CE68-4E4B-AE7A-048393E1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5B32-48CD-4504-822F-89C43E34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3FCD-D023-45B1-9788-930C90F0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EC3F-81CE-4286-B0B1-F5845F6D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C2B6-804E-4928-9E07-F251983B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28976-D343-4EF6-9D97-4C63DE75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75084-4F9B-44F2-A3B4-D86117FB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C25-1101-423F-A330-CE3BD549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72CD5-56E1-4120-87F2-9E458BF8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0401F-AF6C-4C92-821E-E444F063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C31B-DD15-4EE8-AAD0-F92D787C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5E3F1-C365-47A4-A6F3-96CF322B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31B18-5C52-418D-9515-F229A8D1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DBBC2-5CFC-4996-BD17-4B51E67C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0E108-766F-4A5D-9941-AB640141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8D81F-ADEE-4746-9ED0-A966F7ED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2360C-9602-4E9E-91AC-DCB673D5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F510C-F75C-4A63-88F6-9E3E1F5D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FF6-3F34-462C-A487-D15AC427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07498-114E-44FB-B23E-896B426D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33E1D-39D1-476E-83DB-DE919F9C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9456E-80E6-4746-989B-A46116C2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3FE0A-F836-440E-A12E-086F7751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015B5-67D7-4BA3-A798-871697C9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59A3F-6F35-4821-B6AE-7DEE668F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056BD-47C5-4668-9151-EE7CB896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5E588-C419-4DB8-8CF0-61618CF9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070F-23A2-4641-8027-E1218597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2C530-F851-410E-9C65-4B3D405E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0A0-A968-4136-BFE4-9CC1E87F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63603-2D5F-4004-89E1-C0AD5EBC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1BC83-ACD8-4FFB-8F5E-916F5C09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AD027-7460-473F-9A4A-39AC8423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D74B5-F9C9-4FEC-B53C-2651EBC2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96553-7B2F-45D6-9931-EB169F24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E7A5D-DE81-44D2-950F-FA705F1F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A509B-8BB0-449E-A01F-D9F63630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A3031-51EC-47D6-9EC1-231694BF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806A0-81B6-4C6C-8170-69DAF9DD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2F004-6883-4EC0-8FFB-EB9712B1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BE7-CE10-467A-B604-759FC091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A0933-F458-4829-B6C0-BB6C6C81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7C20F-3480-4356-B697-C7FF65B4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AABFE-EF31-4FB7-A1C7-63CA268D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4E6D6-CBDB-4B60-83B5-DAA466DC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36833-7EB2-4E98-88A7-CC3981E9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A87A1-E6F2-437C-B60F-4A3AA29C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4B072-F1C3-4339-B7B7-768D6D6B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07BA3-F026-4976-BBF2-60BA58BF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4A3B3-F556-4577-83DA-1757F433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58C9D-6CA1-4837-9AF7-D522382D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871-C838-4F86-9039-35D377FE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B06EB-AE53-4CFD-904B-9006FD13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8DDA6-AF13-4BD4-B439-E3C0A3FA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112C1-C02A-46C6-8594-DCD94BA1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FE964-DBFA-44C6-BFD8-6C6AB1B7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6E70E-8266-4DF0-8139-EF525746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16ED7-D46B-43BD-AC8A-ACE43BE1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96056-FAD1-4A8B-B79E-A8F23B21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9F8FE-83B6-45C7-A971-26E701C1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87B7A-8BB0-4D02-BEB0-9FD324AB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283D2-0380-4826-B60A-CA6CEEB8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EAF-FF9F-4070-BF1A-2B8A70F3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CEF92-F104-4DCE-A9AD-6E838D26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37877-0392-4E1D-9383-3D5B5A7D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C2774-AABB-443D-97BD-6DE2DA65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EF307-1209-4C90-BBB1-925FAE92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BEC17-8157-4F80-94EF-3303EB4E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FF225-533C-45B6-9F4D-8DD0AC2A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7BE3E-3ABD-402B-98A9-15F4518F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5CB8A-BE03-4BD6-8BF3-A7D64649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B47EB-36EE-44B6-B246-E23278ED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6F851-CAA3-4DE6-905F-AFF88E4F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429-2FBC-429E-91FB-3C1F7EE0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FCC44-AF22-4399-B16A-63DB4B46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EB084-599A-4CEF-8909-D157C48C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289A3-8636-4D13-A07B-31765B43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480CD-039B-41C5-B7F6-E493413F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BB7EE-97B9-4299-ADCC-C78AEC5A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89E80-DDF4-407A-B9DE-7355E1A0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C336F-E095-4B4F-AFF5-B418E95D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F9195-DE0D-4A4B-B660-48137483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C000F-C427-441B-A677-0E33869B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61A84-FB60-4E0F-B150-0C0EF61F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D7DF-F10A-43E8-BD98-B145844E0D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876E-D269-4665-98CF-E467EAA25E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BE34-5435-4F22-B2CF-DB78E3F417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D415-36F3-43DE-8346-C7230B01BA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FE1C-0FC7-43B9-BA38-14825BA9D9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20D8-70C7-4A5A-BD77-56713B3EAA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FB0F-218E-4545-B151-C40CA87DE0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CE48-55EF-47AD-87E2-9817B5423B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DEE6-CDD6-4F20-A561-FDEBF32983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947B-EB6C-4806-8408-A45222C14E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3938-7E54-4E8D-8096-31CF9C80CB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B7C9-7C3E-4282-81DF-C01A332F42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  <a:ea typeface="Arial"/>
              </a:rPr>
              <a:t>Волновые свойства частиц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Arial"/>
                <a:ea typeface="Arial"/>
              </a:rPr>
              <a:t>Поглощение све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Box 3"/>
          <p:cNvSpPr/>
          <p:nvPr/>
        </p:nvSpPr>
        <p:spPr>
          <a:xfrm>
            <a:off x="357120" y="21420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едел разрешения микроско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1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1071360" cy="83484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3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7" descr=""/>
          <p:cNvPicPr/>
          <p:nvPr/>
        </p:nvPicPr>
        <p:blipFill>
          <a:blip r:embed="rId2"/>
          <a:stretch/>
        </p:blipFill>
        <p:spPr>
          <a:xfrm>
            <a:off x="428760" y="2428920"/>
            <a:ext cx="1871640" cy="100008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9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авая фигурная скобка 16"/>
          <p:cNvSpPr/>
          <p:nvPr/>
        </p:nvSpPr>
        <p:spPr>
          <a:xfrm>
            <a:off x="2643120" y="857160"/>
            <a:ext cx="500040" cy="250056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2500560"/>
              <a:gd name="textAreaBottom" fmla="*/ 2487600 h 250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7"/>
          <p:cNvSpPr/>
          <p:nvPr/>
        </p:nvSpPr>
        <p:spPr>
          <a:xfrm>
            <a:off x="428760" y="3714840"/>
            <a:ext cx="7858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=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0,1н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8"/>
          <p:cNvSpPr/>
          <p:nvPr/>
        </p:nvSpPr>
        <p:spPr>
          <a:xfrm>
            <a:off x="357120" y="5143680"/>
            <a:ext cx="7948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при  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V  =&gt;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 разрушение объекта электронами, имеющими огромную скор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Прямая со стрелкой 21"/>
          <p:cNvCxnSpPr/>
          <p:nvPr/>
        </p:nvCxnSpPr>
        <p:spPr>
          <a:xfrm flipV="1">
            <a:off x="1143000" y="5214600"/>
            <a:ext cx="216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19" descr=""/>
          <p:cNvPicPr/>
          <p:nvPr/>
        </p:nvPicPr>
        <p:blipFill>
          <a:blip r:embed="rId3"/>
          <a:stretch/>
        </p:blipFill>
        <p:spPr>
          <a:xfrm>
            <a:off x="428760" y="1643040"/>
            <a:ext cx="2000160" cy="82224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21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2" descr=""/>
          <p:cNvPicPr/>
          <p:nvPr/>
        </p:nvPicPr>
        <p:blipFill>
          <a:blip r:embed="rId4"/>
          <a:stretch/>
        </p:blipFill>
        <p:spPr>
          <a:xfrm>
            <a:off x="3571920" y="1357200"/>
            <a:ext cx="4429080" cy="1435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I:\Медицинская и биологическая физика курс лекций с задачами Федорова Фаустов\Презентации Галина Вячеславовна\4 Волн. св\10000023.jpg"/>
          <p:cNvPicPr/>
          <p:nvPr/>
        </p:nvPicPr>
        <p:blipFill>
          <a:blip r:embed="rId1"/>
          <a:stretch/>
        </p:blipFill>
        <p:spPr>
          <a:xfrm>
            <a:off x="2643120" y="1274760"/>
            <a:ext cx="2733840" cy="55832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5"/>
          <p:cNvSpPr/>
          <p:nvPr/>
        </p:nvSpPr>
        <p:spPr>
          <a:xfrm>
            <a:off x="4643280" y="114300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огреваемый ка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6"/>
          <p:cNvSpPr/>
          <p:nvPr/>
        </p:nvSpPr>
        <p:spPr>
          <a:xfrm>
            <a:off x="5286240" y="157176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ая п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7"/>
          <p:cNvSpPr/>
          <p:nvPr/>
        </p:nvSpPr>
        <p:spPr>
          <a:xfrm>
            <a:off x="5143680" y="2214720"/>
            <a:ext cx="371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денсорная электро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8"/>
          <p:cNvSpPr/>
          <p:nvPr/>
        </p:nvSpPr>
        <p:spPr>
          <a:xfrm>
            <a:off x="5072040" y="328608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ая линза - объек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9"/>
          <p:cNvSpPr/>
          <p:nvPr/>
        </p:nvSpPr>
        <p:spPr>
          <a:xfrm>
            <a:off x="5286240" y="4643280"/>
            <a:ext cx="357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екционная электронна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ин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0"/>
          <p:cNvSpPr/>
          <p:nvPr/>
        </p:nvSpPr>
        <p:spPr>
          <a:xfrm>
            <a:off x="5643720" y="6149880"/>
            <a:ext cx="335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тодолюминесцирующ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3"/>
          <p:cNvSpPr/>
          <p:nvPr/>
        </p:nvSpPr>
        <p:spPr>
          <a:xfrm>
            <a:off x="2928960" y="7142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хема ПЭ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" descr="J:\Медицинская и биологическая физика курс лекций с задачами Федорова Фаустов\Презентации Галина Вячеславовна\4 Волн. св\ПЭМ.jpg"/>
          <p:cNvPicPr/>
          <p:nvPr/>
        </p:nvPicPr>
        <p:blipFill>
          <a:blip r:embed="rId2"/>
          <a:stretch/>
        </p:blipFill>
        <p:spPr>
          <a:xfrm>
            <a:off x="0" y="533520"/>
            <a:ext cx="2049480" cy="6324480"/>
          </a:xfrm>
          <a:prstGeom prst="rect">
            <a:avLst/>
          </a:prstGeom>
          <a:ln w="0">
            <a:noFill/>
          </a:ln>
        </p:spPr>
      </p:pic>
      <p:sp>
        <p:nvSpPr>
          <p:cNvPr id="598" name="TextBox 17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свечивающий электронный микроскоп (ПЭ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Arial"/>
              </a:rPr>
              <a:t>Электронная лин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1" descr="F:\Медицинская и биологическая физика курс лекций с задачами Федорова Фаустов\Презентации Галина Вячеславовна\4 Волн. св\1000001.jpg"/>
          <p:cNvPicPr/>
          <p:nvPr/>
        </p:nvPicPr>
        <p:blipFill>
          <a:blip r:embed="rId1"/>
          <a:stretch/>
        </p:blipFill>
        <p:spPr>
          <a:xfrm>
            <a:off x="1752480" y="857160"/>
            <a:ext cx="5962680" cy="2579760"/>
          </a:xfrm>
          <a:prstGeom prst="rect">
            <a:avLst/>
          </a:prstGeom>
          <a:ln w="0">
            <a:noFill/>
          </a:ln>
        </p:spPr>
      </p:pic>
      <p:sp>
        <p:nvSpPr>
          <p:cNvPr id="601" name="TextBox 3"/>
          <p:cNvSpPr/>
          <p:nvPr/>
        </p:nvSpPr>
        <p:spPr>
          <a:xfrm>
            <a:off x="1214280" y="85716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4"/>
          <p:cNvSpPr/>
          <p:nvPr/>
        </p:nvSpPr>
        <p:spPr>
          <a:xfrm>
            <a:off x="152280" y="557676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еречный срез клетк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терии сенной палочк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штаб шкалы — 200 н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J:\Медицинская и биологическая физика курс лекций с задачами Федорова Фаустов\Презентации Галина Вячеславовна\4 Волн. св\800px-Bacillus_subtilis.jpg"/>
          <p:cNvPicPr/>
          <p:nvPr/>
        </p:nvPicPr>
        <p:blipFill>
          <a:blip r:embed="rId2"/>
          <a:stretch/>
        </p:blipFill>
        <p:spPr>
          <a:xfrm>
            <a:off x="228600" y="3429000"/>
            <a:ext cx="2971800" cy="222732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8"/>
          <p:cNvSpPr/>
          <p:nvPr/>
        </p:nvSpPr>
        <p:spPr>
          <a:xfrm>
            <a:off x="338148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7" descr=""/>
          <p:cNvPicPr/>
          <p:nvPr/>
        </p:nvPicPr>
        <p:blipFill>
          <a:blip r:embed="rId3"/>
          <a:stretch/>
        </p:blipFill>
        <p:spPr>
          <a:xfrm>
            <a:off x="5105520" y="3429000"/>
            <a:ext cx="3143160" cy="236376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9"/>
          <p:cNvSpPr/>
          <p:nvPr/>
        </p:nvSpPr>
        <p:spPr>
          <a:xfrm>
            <a:off x="4572000" y="594360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нно-микроскопический сним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глеродных нанотрубок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Box 3"/>
          <p:cNvSpPr/>
          <p:nvPr/>
        </p:nvSpPr>
        <p:spPr>
          <a:xfrm>
            <a:off x="285840" y="214200"/>
            <a:ext cx="4429080" cy="4483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Достоинства электронного микрос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сокая разрешающая способ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измени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путем измен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добное управление пучком электронов с помощью элек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ческ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 и магнитного по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ольшое увели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4"/>
          <p:cNvSpPr/>
          <p:nvPr/>
        </p:nvSpPr>
        <p:spPr>
          <a:xfrm>
            <a:off x="4857840" y="214200"/>
            <a:ext cx="4071960" cy="4483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вакуу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кажение и деформация биологических объектов в вакуу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ы сильно поглощаются и рассеиваются вещ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репл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оттиск исследуемой поверхности на тонком слое пласт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5"/>
          <p:cNvSpPr/>
          <p:nvPr/>
        </p:nvSpPr>
        <p:spPr>
          <a:xfrm>
            <a:off x="285840" y="5357880"/>
            <a:ext cx="8572320" cy="1252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00"/>
                </a:solidFill>
                <a:uFillTx/>
                <a:latin typeface="Arial"/>
              </a:rPr>
              <a:t>Виды электронной микроскоп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амплитудная, фазовая, интерференционна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1" descr="F:\Медицинская и биологическая физика курс лекций с задачами Федорова Фаустов\Презентации Галина Вячеславовна\4 Волн. св\РЭМ3.jpg"/>
          <p:cNvPicPr/>
          <p:nvPr/>
        </p:nvPicPr>
        <p:blipFill>
          <a:blip r:embed="rId1"/>
          <a:stretch/>
        </p:blipFill>
        <p:spPr>
          <a:xfrm>
            <a:off x="0" y="2949480"/>
            <a:ext cx="4800600" cy="3908520"/>
          </a:xfrm>
          <a:prstGeom prst="rect">
            <a:avLst/>
          </a:prstGeom>
          <a:ln w="0">
            <a:noFill/>
          </a:ln>
        </p:spPr>
      </p:pic>
      <p:sp>
        <p:nvSpPr>
          <p:cNvPr id="611" name="TextBox 5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астровый электронный микроско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РЭ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6"/>
          <p:cNvSpPr/>
          <p:nvPr/>
        </p:nvSpPr>
        <p:spPr>
          <a:xfrm>
            <a:off x="0" y="9288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↓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↑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нформатив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сравнению с ПЭМ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(регистрирует несколько видов излучений, возникающих при взаимодействии электронов с объект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7"/>
          <p:cNvSpPr/>
          <p:nvPr/>
        </p:nvSpPr>
        <p:spPr>
          <a:xfrm>
            <a:off x="4952880" y="2971800"/>
            <a:ext cx="4191120" cy="375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крофотография пыльцы позволяет оцен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и режима  РЭ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J:\Медицинская и биологическая физика курс лекций с задачами Федорова Фаустов\Презентации Галина Вячеславовна\4 Волн. св\пыльца.jpg"/>
          <p:cNvPicPr/>
          <p:nvPr/>
        </p:nvPicPr>
        <p:blipFill>
          <a:blip r:embed="rId2"/>
          <a:stretch/>
        </p:blipFill>
        <p:spPr>
          <a:xfrm>
            <a:off x="5257800" y="3962520"/>
            <a:ext cx="3643200" cy="2771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51"/>
          <p:cNvSpPr/>
          <p:nvPr/>
        </p:nvSpPr>
        <p:spPr>
          <a:xfrm>
            <a:off x="0" y="5357880"/>
            <a:ext cx="914400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чем меньше время существования системы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), тем менее определено значение её энергии (             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33" descr=""/>
          <p:cNvPicPr/>
          <p:nvPr/>
        </p:nvPicPr>
        <p:blipFill>
          <a:blip r:embed="rId1"/>
          <a:stretch/>
        </p:blipFill>
        <p:spPr>
          <a:xfrm>
            <a:off x="3714840" y="4714920"/>
            <a:ext cx="1346040" cy="647640"/>
          </a:xfrm>
          <a:prstGeom prst="rect">
            <a:avLst/>
          </a:prstGeom>
          <a:ln w="0">
            <a:noFill/>
          </a:ln>
        </p:spPr>
      </p:pic>
      <p:sp>
        <p:nvSpPr>
          <p:cNvPr id="617" name="Text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сновные понятия квантовой меха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0"/>
          <p:cNvSpPr/>
          <p:nvPr/>
        </p:nvSpPr>
        <p:spPr>
          <a:xfrm>
            <a:off x="0" y="54648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Times New Roman"/>
              </a:rPr>
              <a:t>Принцип дополнительности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800080"/>
                </a:solidFill>
                <a:uFillTx/>
                <a:latin typeface="Arial"/>
                <a:ea typeface="Times New Roman"/>
              </a:rPr>
              <a:t>невозможно одновременно </a:t>
            </a:r>
            <a:r>
              <a:rPr b="1" lang="ru-RU" sz="2000" spc="-1" strike="noStrike" u="sng">
                <a:solidFill>
                  <a:srgbClr val="800080"/>
                </a:solidFill>
                <a:uFillTx/>
                <a:latin typeface="Arial"/>
                <a:ea typeface="Times New Roman"/>
              </a:rPr>
              <a:t>точно (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!</a:t>
            </a:r>
            <a:r>
              <a:rPr b="1" lang="ru-RU" sz="2000" spc="-1" strike="noStrike" u="sng">
                <a:solidFill>
                  <a:srgbClr val="800080"/>
                </a:solidFill>
                <a:uFillTx/>
                <a:latin typeface="Arial"/>
                <a:ea typeface="Times New Roman"/>
              </a:rPr>
              <a:t>)</a:t>
            </a:r>
            <a:r>
              <a:rPr b="0" lang="ru-RU" sz="2000" spc="-1" strike="noStrike" u="sng">
                <a:solidFill>
                  <a:srgbClr val="800080"/>
                </a:solidFill>
                <a:uFillTx/>
                <a:latin typeface="Arial"/>
                <a:ea typeface="Times New Roman"/>
              </a:rPr>
              <a:t> измерить физические величины, являющиеся дополнительными друг к другу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1.Соотношение неопределенностей Гейзенберг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4"/>
          <p:cNvSpPr/>
          <p:nvPr/>
        </p:nvSpPr>
        <p:spPr>
          <a:xfrm>
            <a:off x="785880" y="2358000"/>
            <a:ext cx="70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решность определения координаты част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42"/>
          <p:cNvSpPr/>
          <p:nvPr/>
        </p:nvSpPr>
        <p:spPr>
          <a:xfrm>
            <a:off x="857160" y="28576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решность определения проекции импульса на выбранную 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43"/>
          <p:cNvSpPr/>
          <p:nvPr/>
        </p:nvSpPr>
        <p:spPr>
          <a:xfrm>
            <a:off x="214200" y="3429000"/>
            <a:ext cx="892980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сли мы точно определяем координату частицы (            ), то невозможно ничего сказать о проекции её импульса              , и наобо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48"/>
          <p:cNvSpPr/>
          <p:nvPr/>
        </p:nvSpPr>
        <p:spPr>
          <a:xfrm>
            <a:off x="0" y="414324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2. Соотношение неопределенностей между энергией некоторого состояния системы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и временем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56"/>
          <p:cNvSpPr/>
          <p:nvPr/>
        </p:nvSpPr>
        <p:spPr>
          <a:xfrm>
            <a:off x="0" y="6211800"/>
            <a:ext cx="91440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отношение неопределенностей устанавливает принципиальные пределы точности измерений микровеличин, которые невозможно преодоле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6" descr=""/>
          <p:cNvPicPr/>
          <p:nvPr/>
        </p:nvPicPr>
        <p:blipFill>
          <a:blip r:embed="rId2"/>
          <a:stretch/>
        </p:blipFill>
        <p:spPr>
          <a:xfrm>
            <a:off x="3143160" y="1857240"/>
            <a:ext cx="2357640" cy="5572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7" descr=""/>
          <p:cNvPicPr/>
          <p:nvPr/>
        </p:nvPicPr>
        <p:blipFill>
          <a:blip r:embed="rId3"/>
          <a:stretch/>
        </p:blipFill>
        <p:spPr>
          <a:xfrm>
            <a:off x="285840" y="2379600"/>
            <a:ext cx="500040" cy="3477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8" descr=""/>
          <p:cNvPicPr/>
          <p:nvPr/>
        </p:nvPicPr>
        <p:blipFill>
          <a:blip r:embed="rId4"/>
          <a:stretch/>
        </p:blipFill>
        <p:spPr>
          <a:xfrm>
            <a:off x="285840" y="2857680"/>
            <a:ext cx="500040" cy="4284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9" descr=""/>
          <p:cNvPicPr/>
          <p:nvPr/>
        </p:nvPicPr>
        <p:blipFill>
          <a:blip r:embed="rId5"/>
          <a:stretch/>
        </p:blipFill>
        <p:spPr>
          <a:xfrm>
            <a:off x="6215040" y="3492360"/>
            <a:ext cx="728640" cy="270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0" descr=""/>
          <p:cNvPicPr/>
          <p:nvPr/>
        </p:nvPicPr>
        <p:blipFill>
          <a:blip r:embed="rId6"/>
          <a:stretch/>
        </p:blipFill>
        <p:spPr>
          <a:xfrm>
            <a:off x="5072040" y="3778200"/>
            <a:ext cx="852480" cy="3175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1" descr=""/>
          <p:cNvPicPr/>
          <p:nvPr/>
        </p:nvPicPr>
        <p:blipFill>
          <a:blip r:embed="rId7"/>
          <a:stretch/>
        </p:blipFill>
        <p:spPr>
          <a:xfrm>
            <a:off x="5522760" y="5429160"/>
            <a:ext cx="830520" cy="3096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2" descr=""/>
          <p:cNvPicPr/>
          <p:nvPr/>
        </p:nvPicPr>
        <p:blipFill>
          <a:blip r:embed="rId8"/>
          <a:stretch/>
        </p:blipFill>
        <p:spPr>
          <a:xfrm>
            <a:off x="4202280" y="5715000"/>
            <a:ext cx="922320" cy="290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10"/>
          <p:cNvSpPr/>
          <p:nvPr/>
        </p:nvSpPr>
        <p:spPr>
          <a:xfrm>
            <a:off x="0" y="2075400"/>
            <a:ext cx="90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квадрат амплитуды волновой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ее математический смысл соответству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функции распределения вероятнос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олновая фу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"/>
          <p:cNvSpPr/>
          <p:nvPr/>
        </p:nvSpPr>
        <p:spPr>
          <a:xfrm>
            <a:off x="0" y="5641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описывает вероятностный характер поведения микрочасти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оятность          нахожде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частицы в объёме пространства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1"/>
          <p:cNvSpPr/>
          <p:nvPr/>
        </p:nvSpPr>
        <p:spPr>
          <a:xfrm>
            <a:off x="0" y="28944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  <a:ea typeface="Times New Roman"/>
              </a:rPr>
              <a:t>Для определения волновой функции микрочастицы необходимо решать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  <a:ea typeface="Times New Roman"/>
              </a:rPr>
              <a:t>уравнение Шрёдинг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основополагающее уравнение в квантовой механик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 стационарном состоя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 движении частицы вдоль одной ос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17"/>
          <p:cNvSpPr/>
          <p:nvPr/>
        </p:nvSpPr>
        <p:spPr>
          <a:xfrm>
            <a:off x="0" y="5715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масса частицы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олная энергия частицы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её  потенциальная энергия, определяемая внешним силовым пол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17" descr=""/>
          <p:cNvPicPr/>
          <p:nvPr/>
        </p:nvPicPr>
        <p:blipFill>
          <a:blip r:embed="rId1"/>
          <a:stretch/>
        </p:blipFill>
        <p:spPr>
          <a:xfrm>
            <a:off x="2643120" y="4714920"/>
            <a:ext cx="4000680" cy="9968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8" descr=""/>
          <p:cNvPicPr/>
          <p:nvPr/>
        </p:nvPicPr>
        <p:blipFill>
          <a:blip r:embed="rId2"/>
          <a:stretch/>
        </p:blipFill>
        <p:spPr>
          <a:xfrm>
            <a:off x="3000240" y="1428840"/>
            <a:ext cx="1854360" cy="5968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9" descr=""/>
          <p:cNvPicPr/>
          <p:nvPr/>
        </p:nvPicPr>
        <p:blipFill>
          <a:blip r:embed="rId3"/>
          <a:stretch/>
        </p:blipFill>
        <p:spPr>
          <a:xfrm>
            <a:off x="428760" y="2000160"/>
            <a:ext cx="463320" cy="5000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0" descr=""/>
          <p:cNvPicPr/>
          <p:nvPr/>
        </p:nvPicPr>
        <p:blipFill>
          <a:blip r:embed="rId4"/>
          <a:stretch/>
        </p:blipFill>
        <p:spPr>
          <a:xfrm>
            <a:off x="2286000" y="1071720"/>
            <a:ext cx="433440" cy="357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1" descr=""/>
          <p:cNvPicPr/>
          <p:nvPr/>
        </p:nvPicPr>
        <p:blipFill>
          <a:blip r:embed="rId5"/>
          <a:stretch/>
        </p:blipFill>
        <p:spPr>
          <a:xfrm>
            <a:off x="7696080" y="1066680"/>
            <a:ext cx="465120" cy="357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3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остояние электрона в атоме характеризуют квантовыми чис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4"/>
          <p:cNvSpPr/>
          <p:nvPr/>
        </p:nvSpPr>
        <p:spPr>
          <a:xfrm>
            <a:off x="0" y="1214280"/>
            <a:ext cx="91440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Главное квантовое число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характеризует оболочку, на которой находится электрон (уровень энергии системы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ем больш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ем дальше от ядра находится электрон и больше его энергия. Оболочки обозначаются буквами                                                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рбитальное квантовое числ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яет форму электронных орбитал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решения уравнения Шрёдингера следует четыре формы электронных орбиталей:                            орби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Магнитное квантовое число </a:t>
            </a: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яет ориентацию орбиталей в пространств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влияние внешнего электромагнитного поля на состояние электр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пиновое квантовое число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характеризует направление вращения электрона вокруг собственной ос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ри вращении электрона по часовой стрелке                  , против -                    . На одной орбитали может находиться не более двух электронов с противоположными спи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Принцип запрета Паули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: в атоме никакие два электрона не мог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иметь одинаковый набор четырех квантовы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12" descr=""/>
          <p:cNvPicPr/>
          <p:nvPr/>
        </p:nvPicPr>
        <p:blipFill>
          <a:blip r:embed="rId1"/>
          <a:stretch/>
        </p:blipFill>
        <p:spPr>
          <a:xfrm>
            <a:off x="3143160" y="2214720"/>
            <a:ext cx="3390840" cy="2919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3" descr=""/>
          <p:cNvPicPr/>
          <p:nvPr/>
        </p:nvPicPr>
        <p:blipFill>
          <a:blip r:embed="rId2"/>
          <a:stretch/>
        </p:blipFill>
        <p:spPr>
          <a:xfrm>
            <a:off x="3429000" y="3071880"/>
            <a:ext cx="1841400" cy="314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4" descr=""/>
          <p:cNvPicPr/>
          <p:nvPr/>
        </p:nvPicPr>
        <p:blipFill>
          <a:blip r:embed="rId3"/>
          <a:stretch/>
        </p:blipFill>
        <p:spPr>
          <a:xfrm>
            <a:off x="1500120" y="4979880"/>
            <a:ext cx="928800" cy="2700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5" descr=""/>
          <p:cNvPicPr/>
          <p:nvPr/>
        </p:nvPicPr>
        <p:blipFill>
          <a:blip r:embed="rId4"/>
          <a:stretch/>
        </p:blipFill>
        <p:spPr>
          <a:xfrm>
            <a:off x="3795840" y="4929120"/>
            <a:ext cx="1242720" cy="362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собенности излучения и поглощения энергии атомами и молеку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1356840"/>
            <a:ext cx="38577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Схема энергетических уровней ат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2" descr="рис 4"/>
          <p:cNvPicPr/>
          <p:nvPr/>
        </p:nvPicPr>
        <p:blipFill>
          <a:blip r:embed="rId1"/>
          <a:stretch/>
        </p:blipFill>
        <p:spPr>
          <a:xfrm>
            <a:off x="0" y="2286000"/>
            <a:ext cx="3940200" cy="283536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1"/>
          <p:cNvSpPr/>
          <p:nvPr/>
        </p:nvSpPr>
        <p:spPr>
          <a:xfrm>
            <a:off x="4357800" y="1626840"/>
            <a:ext cx="4572000" cy="4972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ервый постулат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ная система может находиться только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собых стационарных состояния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каждому из которых соответствует определенная энергия. Находясь в стационарном состоянии, ато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 излучает и не поглощает энерги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Второй постулат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лучение или поглощение фотона происходит при переходе атома из одного стационарного состояния в другое (при переходе электрона с одной орбиты на другу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ая соединительная линия 8"/>
          <p:cNvSpPr/>
          <p:nvPr/>
        </p:nvSpPr>
        <p:spPr>
          <a:xfrm flipH="1">
            <a:off x="4214880" y="1143000"/>
            <a:ext cx="1440" cy="5500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9"/>
          <p:cNvSpPr/>
          <p:nvPr/>
        </p:nvSpPr>
        <p:spPr>
          <a:xfrm>
            <a:off x="4500720" y="100008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"/>
              </a:rPr>
              <a:t>Постулаты 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3"/>
          <p:cNvSpPr/>
          <p:nvPr/>
        </p:nvSpPr>
        <p:spPr>
          <a:xfrm>
            <a:off x="1080" y="138924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r>
              <a:rPr b="0" lang="ru-RU" sz="2400" spc="-1" strike="noStrike">
                <a:solidFill>
                  <a:srgbClr val="77933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с поглощением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4"/>
          <p:cNvSpPr/>
          <p:nvPr/>
        </p:nvSpPr>
        <p:spPr>
          <a:xfrm>
            <a:off x="4235400" y="1389240"/>
            <a:ext cx="45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)</a:t>
            </a:r>
            <a:r>
              <a:rPr b="0" lang="ru-RU" sz="2400" spc="-1" strike="noStrike">
                <a:solidFill>
                  <a:srgbClr val="77933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ea typeface="Arial"/>
              </a:rPr>
              <a:t>со спонтанным излучением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6"/>
          <p:cNvSpPr/>
          <p:nvPr/>
        </p:nvSpPr>
        <p:spPr>
          <a:xfrm>
            <a:off x="1785600" y="378612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)</a:t>
            </a:r>
            <a:r>
              <a:rPr b="0" lang="ru-RU" sz="2400" spc="-1" strike="noStrike">
                <a:solidFill>
                  <a:srgbClr val="77933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  <a:ea typeface="Arial"/>
              </a:rPr>
              <a:t>с вынужденным излучением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3973320" y="74880"/>
            <a:ext cx="119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1"/>
              <p:cNvSpPr txBox="1"/>
              <p:nvPr/>
            </p:nvSpPr>
            <p:spPr>
              <a:xfrm>
                <a:off x="71280" y="2786040"/>
                <a:ext cx="4906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5" name="Picture 4" descr="рис 4"/>
          <p:cNvPicPr/>
          <p:nvPr/>
        </p:nvPicPr>
        <p:blipFill>
          <a:blip r:embed="rId1"/>
          <a:stretch/>
        </p:blipFill>
        <p:spPr>
          <a:xfrm>
            <a:off x="685800" y="2274840"/>
            <a:ext cx="2971800" cy="115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6" name="Object 5"/>
              <p:cNvSpPr txBox="1"/>
              <p:nvPr/>
            </p:nvSpPr>
            <p:spPr>
              <a:xfrm>
                <a:off x="8305920" y="2819520"/>
                <a:ext cx="500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7" name="Picture 6" descr="рис 4"/>
          <p:cNvPicPr/>
          <p:nvPr/>
        </p:nvPicPr>
        <p:blipFill>
          <a:blip r:embed="rId2"/>
          <a:stretch/>
        </p:blipFill>
        <p:spPr>
          <a:xfrm>
            <a:off x="4419720" y="2286000"/>
            <a:ext cx="3843360" cy="126684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8"/>
          <p:cNvSpPr/>
          <p:nvPr/>
        </p:nvSpPr>
        <p:spPr>
          <a:xfrm>
            <a:off x="3524400" y="303840"/>
            <a:ext cx="30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9" descr="рис 4"/>
          <p:cNvPicPr/>
          <p:nvPr/>
        </p:nvPicPr>
        <p:blipFill>
          <a:blip r:embed="rId3"/>
          <a:stretch/>
        </p:blipFill>
        <p:spPr>
          <a:xfrm>
            <a:off x="2500200" y="4357800"/>
            <a:ext cx="4152960" cy="135720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Object 10"/>
              <p:cNvSpPr txBox="1"/>
              <p:nvPr/>
            </p:nvSpPr>
            <p:spPr>
              <a:xfrm>
                <a:off x="2000160" y="4714920"/>
                <a:ext cx="4906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Object 12"/>
              <p:cNvSpPr txBox="1"/>
              <p:nvPr/>
            </p:nvSpPr>
            <p:spPr>
              <a:xfrm>
                <a:off x="6643800" y="4714920"/>
                <a:ext cx="490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Object 14"/>
              <p:cNvSpPr txBox="1"/>
              <p:nvPr/>
            </p:nvSpPr>
            <p:spPr>
              <a:xfrm>
                <a:off x="6724800" y="5072040"/>
                <a:ext cx="490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TextBox 19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вантовые пере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20"/>
          <p:cNvSpPr/>
          <p:nvPr/>
        </p:nvSpPr>
        <p:spPr>
          <a:xfrm>
            <a:off x="0" y="457200"/>
            <a:ext cx="9144000" cy="76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чкообразные переходы с одного энергетического уровня на дру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21"/>
          <p:cNvSpPr/>
          <p:nvPr/>
        </p:nvSpPr>
        <p:spPr>
          <a:xfrm>
            <a:off x="380880" y="5943600"/>
            <a:ext cx="7925040" cy="703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Возможны </a:t>
            </a:r>
            <a:r>
              <a:rPr b="0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безизлучательные перех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пример, при столкновениях атомов и молекул друг с друг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3"/>
          <p:cNvSpPr/>
          <p:nvPr/>
        </p:nvSpPr>
        <p:spPr>
          <a:xfrm>
            <a:off x="0" y="304920"/>
            <a:ext cx="842976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Квантовая биофиз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а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электронную структур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электронные     перех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биологических молекул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ичные стадии фотобиологических процес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поглощении и люминесцен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онорно-акцепторные свой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иомолеку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евращение энер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ыделяющейся при химических реакциях в энергию электронно-возбужденных состоя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Для описания этих и подобных им процессов необходимо применять </a:t>
            </a:r>
            <a:r>
              <a:rPr b="1" i="1" lang="ru-RU" sz="2400" spc="-1" strike="noStrike" u="sng">
                <a:solidFill>
                  <a:srgbClr val="009900"/>
                </a:solidFill>
                <a:uFillTx/>
                <a:latin typeface="Arial"/>
              </a:rPr>
              <a:t>понятия и законы квантовой механики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хема энергетических уровней молек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4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894120" cy="60984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6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7" descr=""/>
          <p:cNvPicPr/>
          <p:nvPr/>
        </p:nvPicPr>
        <p:blipFill>
          <a:blip r:embed="rId2"/>
          <a:stretch/>
        </p:blipFill>
        <p:spPr>
          <a:xfrm>
            <a:off x="2857680" y="1214280"/>
            <a:ext cx="4151160" cy="56196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9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2"/>
          <p:cNvSpPr/>
          <p:nvPr/>
        </p:nvSpPr>
        <p:spPr>
          <a:xfrm>
            <a:off x="0" y="655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13" descr=""/>
          <p:cNvPicPr/>
          <p:nvPr/>
        </p:nvPicPr>
        <p:blipFill>
          <a:blip r:embed="rId3"/>
          <a:stretch/>
        </p:blipFill>
        <p:spPr>
          <a:xfrm>
            <a:off x="0" y="2000160"/>
            <a:ext cx="5786280" cy="4552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3" descr=""/>
          <p:cNvPicPr/>
          <p:nvPr/>
        </p:nvPicPr>
        <p:blipFill>
          <a:blip r:embed="rId4"/>
          <a:stretch/>
        </p:blipFill>
        <p:spPr>
          <a:xfrm>
            <a:off x="2714760" y="1785960"/>
            <a:ext cx="2714400" cy="704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Прямоугольник 3"/>
          <p:cNvSpPr/>
          <p:nvPr/>
        </p:nvSpPr>
        <p:spPr>
          <a:xfrm>
            <a:off x="5143680" y="3809880"/>
            <a:ext cx="4000320" cy="17438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ебательный спект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 – для чистого веще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 – комплек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…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, 3 – комплек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…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5"/>
          <p:cNvSpPr/>
          <p:nvPr/>
        </p:nvSpPr>
        <p:spPr>
          <a:xfrm>
            <a:off x="0" y="533520"/>
            <a:ext cx="5072040" cy="60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"/>
              </a:rPr>
              <a:t>Вращательны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≠0, 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к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, 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ответствуют переходам между вращательными подуровн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олебатель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лебательно – вращательные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в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≠0, 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к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≠0, 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ответствуют переходам между колебательными подуровнями и, возможно, изменениями вращательных состоя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Электрон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электронно-колебательно-вращательные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≠0, 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к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≠0, 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в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≠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ответствуют изменению электронных состояний и, следовательно, возможному изменению колебательных и вращательных состоя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7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ды спектро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0" descr=""/>
          <p:cNvPicPr/>
          <p:nvPr/>
        </p:nvPicPr>
        <p:blipFill>
          <a:blip r:embed="rId1"/>
          <a:stretch/>
        </p:blipFill>
        <p:spPr>
          <a:xfrm>
            <a:off x="4827600" y="1000080"/>
            <a:ext cx="4316400" cy="2754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глощение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4"/>
          <p:cNvSpPr/>
          <p:nvPr/>
        </p:nvSpPr>
        <p:spPr>
          <a:xfrm>
            <a:off x="214200" y="71424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слабление интенсивности света при прохождении через вещество из-за превращения световой энергии в другие виды 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5"/>
          <p:cNvSpPr/>
          <p:nvPr/>
        </p:nvSpPr>
        <p:spPr>
          <a:xfrm>
            <a:off x="214200" y="1928880"/>
            <a:ext cx="78631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Бугер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еоретически выведен Ламбертом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9"/>
          <p:cNvSpPr/>
          <p:nvPr/>
        </p:nvSpPr>
        <p:spPr>
          <a:xfrm>
            <a:off x="214200" y="2428920"/>
            <a:ext cx="864396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нсивность падающего св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нсивность света, прошедше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веще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щина слоя ве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нохроматический коэффициент поглощения.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4" descr=""/>
          <p:cNvPicPr/>
          <p:nvPr/>
        </p:nvPicPr>
        <p:blipFill>
          <a:blip r:embed="rId1"/>
          <a:stretch/>
        </p:blipFill>
        <p:spPr>
          <a:xfrm>
            <a:off x="357120" y="2643120"/>
            <a:ext cx="2924280" cy="84780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6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428760" y="55008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17"/>
          <p:cNvSpPr/>
          <p:nvPr/>
        </p:nvSpPr>
        <p:spPr>
          <a:xfrm>
            <a:off x="6143760" y="5143680"/>
            <a:ext cx="278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нсивность падающего света ослабляется в 2,7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0" descr=""/>
          <p:cNvPicPr/>
          <p:nvPr/>
        </p:nvPicPr>
        <p:blipFill>
          <a:blip r:embed="rId2"/>
          <a:stretch/>
        </p:blipFill>
        <p:spPr>
          <a:xfrm>
            <a:off x="1214280" y="5143680"/>
            <a:ext cx="4857840" cy="114768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12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Box 19"/>
          <p:cNvSpPr/>
          <p:nvPr/>
        </p:nvSpPr>
        <p:spPr>
          <a:xfrm>
            <a:off x="3286080" y="1428840"/>
            <a:ext cx="585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- молярная концент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олярный коэффициент поглощения, не зависящий от концент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4"/>
          <p:cNvSpPr/>
          <p:nvPr/>
        </p:nvSpPr>
        <p:spPr>
          <a:xfrm>
            <a:off x="214200" y="214200"/>
            <a:ext cx="87156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ироде явления поглощения лежит взаимодействие световой волны с молекулами ве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9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12" descr=""/>
          <p:cNvPicPr/>
          <p:nvPr/>
        </p:nvPicPr>
        <p:blipFill>
          <a:blip r:embed="rId1"/>
          <a:stretch/>
        </p:blipFill>
        <p:spPr>
          <a:xfrm>
            <a:off x="3357720" y="1785960"/>
            <a:ext cx="363240" cy="500040"/>
          </a:xfrm>
          <a:prstGeom prst="rect">
            <a:avLst/>
          </a:prstGeom>
          <a:ln w="0">
            <a:noFill/>
          </a:ln>
        </p:spPr>
      </p:pic>
      <p:sp>
        <p:nvSpPr>
          <p:cNvPr id="731" name="TextBox 20"/>
          <p:cNvSpPr/>
          <p:nvPr/>
        </p:nvSpPr>
        <p:spPr>
          <a:xfrm>
            <a:off x="285840" y="114300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Б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21"/>
          <p:cNvSpPr/>
          <p:nvPr/>
        </p:nvSpPr>
        <p:spPr>
          <a:xfrm>
            <a:off x="4143240" y="31431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Бугера-Ламберта-Б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14" descr=""/>
          <p:cNvPicPr/>
          <p:nvPr/>
        </p:nvPicPr>
        <p:blipFill>
          <a:blip r:embed="rId2"/>
          <a:stretch/>
        </p:blipFill>
        <p:spPr>
          <a:xfrm>
            <a:off x="4929120" y="3929040"/>
            <a:ext cx="2357640" cy="63180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16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17" descr=""/>
          <p:cNvPicPr/>
          <p:nvPr/>
        </p:nvPicPr>
        <p:blipFill>
          <a:blip r:embed="rId3"/>
          <a:stretch/>
        </p:blipFill>
        <p:spPr>
          <a:xfrm>
            <a:off x="4929120" y="4500720"/>
            <a:ext cx="2357640" cy="625320"/>
          </a:xfrm>
          <a:prstGeom prst="rect">
            <a:avLst/>
          </a:prstGeom>
          <a:ln w="0">
            <a:noFill/>
          </a:ln>
        </p:spPr>
      </p:pic>
      <p:sp>
        <p:nvSpPr>
          <p:cNvPr id="738" name="TextBox 27"/>
          <p:cNvSpPr/>
          <p:nvPr/>
        </p:nvSpPr>
        <p:spPr>
          <a:xfrm>
            <a:off x="214200" y="52149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Физический смысл  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рное эффективное сечение поглощения всех молекул одного моля растворённого вещ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ффективное сечение поглощения молеку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1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2" descr=""/>
          <p:cNvPicPr/>
          <p:nvPr/>
        </p:nvPicPr>
        <p:blipFill>
          <a:blip r:embed="rId4"/>
          <a:stretch/>
        </p:blipFill>
        <p:spPr>
          <a:xfrm>
            <a:off x="214200" y="6232680"/>
            <a:ext cx="285840" cy="625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3" name="Object 32"/>
              <p:cNvSpPr txBox="1"/>
              <p:nvPr/>
            </p:nvSpPr>
            <p:spPr>
              <a:xfrm>
                <a:off x="339840" y="1714680"/>
                <a:ext cx="17841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λ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33"/>
              <p:cNvSpPr txBox="1"/>
              <p:nvPr/>
            </p:nvSpPr>
            <p:spPr>
              <a:xfrm>
                <a:off x="1285920" y="3071880"/>
                <a:ext cx="26971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с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34"/>
              <p:cNvSpPr txBox="1"/>
              <p:nvPr/>
            </p:nvSpPr>
            <p:spPr>
              <a:xfrm>
                <a:off x="1285920" y="4214880"/>
                <a:ext cx="33368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с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35"/>
              <p:cNvSpPr txBox="1"/>
              <p:nvPr/>
            </p:nvSpPr>
            <p:spPr>
              <a:xfrm>
                <a:off x="4110120" y="5886360"/>
                <a:ext cx="1890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6"/>
              <p:cNvSpPr txBox="1"/>
              <p:nvPr/>
            </p:nvSpPr>
            <p:spPr>
              <a:xfrm>
                <a:off x="2786040" y="4964040"/>
                <a:ext cx="428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8" name="TextBox 30"/>
          <p:cNvSpPr/>
          <p:nvPr/>
        </p:nvSpPr>
        <p:spPr>
          <a:xfrm>
            <a:off x="285840" y="3143160"/>
            <a:ext cx="121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1"/>
          <p:cNvSpPr/>
          <p:nvPr/>
        </p:nvSpPr>
        <p:spPr>
          <a:xfrm>
            <a:off x="142920" y="435780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эффициент пропуск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тношение потока излучения Ф, прошедшего через среду, к падающему на её поверхность потоку 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6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10"/>
          <p:cNvSpPr/>
          <p:nvPr/>
        </p:nvSpPr>
        <p:spPr>
          <a:xfrm>
            <a:off x="3357720" y="150012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11"/>
          <p:cNvSpPr/>
          <p:nvPr/>
        </p:nvSpPr>
        <p:spPr>
          <a:xfrm>
            <a:off x="214200" y="257184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птическая плот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десятичный логарифм от величины, обратной коэффициенту пропуск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7" descr=""/>
          <p:cNvPicPr/>
          <p:nvPr/>
        </p:nvPicPr>
        <p:blipFill>
          <a:blip r:embed="rId1"/>
          <a:stretch/>
        </p:blipFill>
        <p:spPr>
          <a:xfrm>
            <a:off x="1714680" y="1143000"/>
            <a:ext cx="1500120" cy="129852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9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10" descr=""/>
          <p:cNvPicPr/>
          <p:nvPr/>
        </p:nvPicPr>
        <p:blipFill>
          <a:blip r:embed="rId2"/>
          <a:stretch/>
        </p:blipFill>
        <p:spPr>
          <a:xfrm>
            <a:off x="4357800" y="1071720"/>
            <a:ext cx="1400040" cy="1428480"/>
          </a:xfrm>
          <a:prstGeom prst="rect">
            <a:avLst/>
          </a:prstGeom>
          <a:ln w="0">
            <a:noFill/>
          </a:ln>
        </p:spPr>
      </p:pic>
      <p:sp>
        <p:nvSpPr>
          <p:cNvPr id="762" name="Rectangle 12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5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21"/>
          <p:cNvSpPr/>
          <p:nvPr/>
        </p:nvSpPr>
        <p:spPr>
          <a:xfrm>
            <a:off x="2714760" y="3429000"/>
            <a:ext cx="585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пектр поглощ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зависимость оптической плотности от длины волны с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8"/>
          <p:cNvSpPr/>
          <p:nvPr/>
        </p:nvSpPr>
        <p:spPr>
          <a:xfrm>
            <a:off x="-90000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19" descr=""/>
          <p:cNvPicPr/>
          <p:nvPr/>
        </p:nvPicPr>
        <p:blipFill>
          <a:blip r:embed="rId3"/>
          <a:stretch/>
        </p:blipFill>
        <p:spPr>
          <a:xfrm>
            <a:off x="642960" y="5715000"/>
            <a:ext cx="2071800" cy="73008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21"/>
          <p:cNvSpPr/>
          <p:nvPr/>
        </p:nvSpPr>
        <p:spPr>
          <a:xfrm>
            <a:off x="-90000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28"/>
          <p:cNvSpPr/>
          <p:nvPr/>
        </p:nvSpPr>
        <p:spPr>
          <a:xfrm>
            <a:off x="3000240" y="5715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яют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24"/>
          <p:cNvSpPr/>
          <p:nvPr/>
        </p:nvSpPr>
        <p:spPr>
          <a:xfrm>
            <a:off x="-90000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5" descr=""/>
          <p:cNvPicPr/>
          <p:nvPr/>
        </p:nvPicPr>
        <p:blipFill>
          <a:blip r:embed="rId4"/>
          <a:stretch/>
        </p:blipFill>
        <p:spPr>
          <a:xfrm>
            <a:off x="4286160" y="6087960"/>
            <a:ext cx="620640" cy="48420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27"/>
          <p:cNvSpPr/>
          <p:nvPr/>
        </p:nvSpPr>
        <p:spPr>
          <a:xfrm>
            <a:off x="-90000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28" descr=""/>
          <p:cNvPicPr/>
          <p:nvPr/>
        </p:nvPicPr>
        <p:blipFill>
          <a:blip r:embed="rId5"/>
          <a:stretch/>
        </p:blipFill>
        <p:spPr>
          <a:xfrm>
            <a:off x="7286760" y="5715000"/>
            <a:ext cx="352440" cy="47628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30"/>
          <p:cNvSpPr/>
          <p:nvPr/>
        </p:nvSpPr>
        <p:spPr>
          <a:xfrm>
            <a:off x="-90000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0" descr=""/>
          <p:cNvPicPr/>
          <p:nvPr/>
        </p:nvPicPr>
        <p:blipFill>
          <a:blip r:embed="rId6"/>
          <a:stretch/>
        </p:blipFill>
        <p:spPr>
          <a:xfrm>
            <a:off x="642960" y="3500280"/>
            <a:ext cx="1641600" cy="10717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1" descr=""/>
          <p:cNvPicPr/>
          <p:nvPr/>
        </p:nvPicPr>
        <p:blipFill>
          <a:blip r:embed="rId7"/>
          <a:stretch/>
        </p:blipFill>
        <p:spPr>
          <a:xfrm>
            <a:off x="642960" y="4572000"/>
            <a:ext cx="7839000" cy="1143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Box 3"/>
          <p:cNvSpPr/>
          <p:nvPr/>
        </p:nvSpPr>
        <p:spPr>
          <a:xfrm>
            <a:off x="214200" y="642960"/>
            <a:ext cx="8715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Концентрационная колориметри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абсорбционный метод определения концентрации вещества в окрашенном растворе по его спектру погло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Колоримет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рибор для сравнения интенсивности окраски исследуемого раствора с растворител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нешний вид фотоэлектроколориметра ФЭК-56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2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555720" cy="4929480"/>
          </a:xfrm>
          <a:prstGeom prst="rect">
            <a:avLst/>
          </a:prstGeom>
          <a:ln w="0">
            <a:noFill/>
          </a:ln>
        </p:spPr>
      </p:pic>
      <p:sp>
        <p:nvSpPr>
          <p:cNvPr id="785" name="TextBox 5"/>
          <p:cNvSpPr/>
          <p:nvPr/>
        </p:nvSpPr>
        <p:spPr>
          <a:xfrm>
            <a:off x="4191120" y="1143000"/>
            <a:ext cx="4286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микроамперме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крышка кюветного отд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-ручка шторки для перекрывания световых пото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-разъем для присоединения блока 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-рукоятка перемещения кюв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-рукоятка измерительной диафраг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-барабан со шкалой Т (черная) и А (красна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-рукоятка компенсирующей диафраг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-рукоятка регулировки чувствительности приб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-рукоятка установки стрелки микроамперметра на но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птическая схема фотоэлектроколориметра ФЭК-56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" descr=""/>
          <p:cNvPicPr/>
          <p:nvPr/>
        </p:nvPicPr>
        <p:blipFill>
          <a:blip r:embed="rId1"/>
          <a:stretch/>
        </p:blipFill>
        <p:spPr>
          <a:xfrm>
            <a:off x="0" y="760320"/>
            <a:ext cx="5486400" cy="3705480"/>
          </a:xfrm>
          <a:prstGeom prst="rect">
            <a:avLst/>
          </a:prstGeom>
          <a:ln w="0">
            <a:noFill/>
          </a:ln>
        </p:spPr>
      </p:pic>
      <p:sp>
        <p:nvSpPr>
          <p:cNvPr id="788" name="TextBox 6"/>
          <p:cNvSpPr/>
          <p:nvPr/>
        </p:nvSpPr>
        <p:spPr>
          <a:xfrm>
            <a:off x="5410080" y="685800"/>
            <a:ext cx="3214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источник св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светофиль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-приз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-кювета с растворителем или раствором сравн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кювета с исследуемым раствор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,6- диафраг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- фотоэле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8"/>
          <p:cNvSpPr/>
          <p:nvPr/>
        </p:nvSpPr>
        <p:spPr>
          <a:xfrm>
            <a:off x="0" y="450072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6"/>
          <p:cNvSpPr/>
          <p:nvPr/>
        </p:nvSpPr>
        <p:spPr>
          <a:xfrm>
            <a:off x="0" y="4572000"/>
            <a:ext cx="8991720" cy="192348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овой поток от источника света (1), пройдя через светофильтр (2), попадает на призму (3), которая делит поток на два равноценных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вый и прав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Далее параллельные потоки идут через кюветы (4-4 или 4-4’), диафрагмы (5, 6) и попадают на сурьмяно-цезиевые фотоэлементы (7), включенные по дифференциальной схеме через усилитель постоянного тока на микроамперме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птическая схема фотоэлектроколориметра ФЭК-56М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4"/>
          <p:cNvSpPr/>
          <p:nvPr/>
        </p:nvSpPr>
        <p:spPr>
          <a:xfrm>
            <a:off x="4572000" y="914400"/>
            <a:ext cx="4572000" cy="484884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динаковая освещенность фотоэлементов вызывает отклонение стрелки микроамперметра. Раздвижные диафрагмы (5, 6) при вращении связанных с ними барабанов меняют свою площадь и, тем самым, меняется интенсивность световых потоков, падающих на фотоэлемен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2" descr=""/>
          <p:cNvPicPr/>
          <p:nvPr/>
        </p:nvPicPr>
        <p:blipFill>
          <a:blip r:embed="rId1"/>
          <a:stretch/>
        </p:blipFill>
        <p:spPr>
          <a:xfrm>
            <a:off x="0" y="914400"/>
            <a:ext cx="4572000" cy="308772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6"/>
          <p:cNvSpPr/>
          <p:nvPr/>
        </p:nvSpPr>
        <p:spPr>
          <a:xfrm>
            <a:off x="0" y="4038480"/>
            <a:ext cx="457200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ый барабан является измерите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вый - компенсацион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 барабанах нанесены деления шкал: пропускания (черным цветом)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птической плот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красным цвет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Box 3"/>
          <p:cNvSpPr/>
          <p:nvPr/>
        </p:nvSpPr>
        <p:spPr>
          <a:xfrm>
            <a:off x="214200" y="214200"/>
            <a:ext cx="892980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пект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источник информации об исследуемом объек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оста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личественный анал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Выводы о строен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а, структур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ых уровней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орм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пределение состоя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а, е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одинамически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" descr="I:\Медицинская и биологическая физика курс лекций с задачами Федорова Фаустов\Презентации Галина Вячеславовна\4 Волн. св\311122.jpg"/>
          <p:cNvPicPr/>
          <p:nvPr/>
        </p:nvPicPr>
        <p:blipFill>
          <a:blip r:embed="rId1"/>
          <a:stretch/>
        </p:blipFill>
        <p:spPr>
          <a:xfrm>
            <a:off x="0" y="1392120"/>
            <a:ext cx="5715000" cy="4505400"/>
          </a:xfrm>
          <a:prstGeom prst="rect">
            <a:avLst/>
          </a:prstGeom>
          <a:ln w="0">
            <a:noFill/>
          </a:ln>
        </p:spPr>
      </p:pic>
      <p:sp>
        <p:nvSpPr>
          <p:cNvPr id="797" name="TextBox 2"/>
          <p:cNvSpPr/>
          <p:nvPr/>
        </p:nvSpPr>
        <p:spPr>
          <a:xfrm>
            <a:off x="5410080" y="5181480"/>
            <a:ext cx="6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н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"/>
          <p:cNvSpPr/>
          <p:nvPr/>
        </p:nvSpPr>
        <p:spPr>
          <a:xfrm>
            <a:off x="0" y="39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Корпускулярно-волновой дуализм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(двойственная природа све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4"/>
          <p:cNvSpPr/>
          <p:nvPr/>
        </p:nvSpPr>
        <p:spPr>
          <a:xfrm>
            <a:off x="285840" y="1857240"/>
            <a:ext cx="428616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олновые свойст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нтерференция, дифракция, дисперсия, поляр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4786200" y="1861560"/>
            <a:ext cx="407196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орпускулярные свойств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отоэффект, тепловое изл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49120" y="342684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Фотон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– элементарная частица света, обладающая волновыми св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Соединительная линия уступом 9"/>
          <p:cNvCxnSpPr>
            <a:stCxn id="501" idx="2"/>
            <a:endCxn id="503" idx="0"/>
          </p:cNvCxnSpPr>
          <p:nvPr/>
        </p:nvCxnSpPr>
        <p:spPr>
          <a:xfrm flipH="1" rot="16200000">
            <a:off x="5303880" y="338760"/>
            <a:ext cx="786240" cy="2251800"/>
          </a:xfrm>
          <a:prstGeom prst="bentConnector3">
            <a:avLst>
              <a:gd name="adj1" fmla="val 49885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06" name="Соединительная линия уступом 11"/>
          <p:cNvCxnSpPr>
            <a:stCxn id="501" idx="2"/>
            <a:endCxn id="502" idx="0"/>
          </p:cNvCxnSpPr>
          <p:nvPr/>
        </p:nvCxnSpPr>
        <p:spPr>
          <a:xfrm rot="5400000">
            <a:off x="3106800" y="392760"/>
            <a:ext cx="786240" cy="2143800"/>
          </a:xfrm>
          <a:prstGeom prst="bentConnector3">
            <a:avLst>
              <a:gd name="adj1" fmla="val 49885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507" name="Text Box 9"/>
          <p:cNvSpPr/>
          <p:nvPr/>
        </p:nvSpPr>
        <p:spPr>
          <a:xfrm>
            <a:off x="380880" y="4648320"/>
            <a:ext cx="8382240" cy="1557000"/>
          </a:xfrm>
          <a:prstGeom prst="rect">
            <a:avLst/>
          </a:prstGeom>
          <a:solidFill>
            <a:srgbClr val="fdc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относится  к электромагнитному излучению разных часто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При уменьшении длин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олны излучения сильнее проявляются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корпускулярные свойст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при увеличе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волновые свойст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5" descr=""/>
          <p:cNvPicPr/>
          <p:nvPr/>
        </p:nvPicPr>
        <p:blipFill>
          <a:blip r:embed="rId1"/>
          <a:stretch/>
        </p:blipFill>
        <p:spPr>
          <a:xfrm>
            <a:off x="6786720" y="4572000"/>
            <a:ext cx="2063520" cy="18572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" descr=""/>
          <p:cNvPicPr/>
          <p:nvPr/>
        </p:nvPicPr>
        <p:blipFill>
          <a:blip r:embed="rId2"/>
          <a:stretch/>
        </p:blipFill>
        <p:spPr>
          <a:xfrm>
            <a:off x="6480" y="128520"/>
            <a:ext cx="2431800" cy="308448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4"/>
          <p:cNvSpPr/>
          <p:nvPr/>
        </p:nvSpPr>
        <p:spPr>
          <a:xfrm>
            <a:off x="2428920" y="214200"/>
            <a:ext cx="671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уи де Брой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92 – 198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нцузский физик, лауреат Нобелевской премии по физике (1929), пожизненный секретарь Французской Академии наук. Один из основоположников квантовой меха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2500200" y="2084760"/>
            <a:ext cx="66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В 1924 г. де Бройль распространил принцип двойственной природы на все микрообъект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6"/>
          <p:cNvSpPr/>
          <p:nvPr/>
        </p:nvSpPr>
        <p:spPr>
          <a:xfrm>
            <a:off x="285840" y="3071880"/>
            <a:ext cx="8020080" cy="1008720"/>
          </a:xfrm>
          <a:prstGeom prst="rect">
            <a:avLst/>
          </a:prstGeom>
          <a:solidFill>
            <a:srgbClr val="fdc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гласн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гипотезе де Брой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 только фотоны, но и другие част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электроны, протоны, нейтроны и т.д.)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являются одновременно и частицами и волновым процесс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0" y="4037400"/>
            <a:ext cx="73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1927 году гипотеза была подтверждена эксперимента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. Дэвидсон и Л.Джермер наблюда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ифрак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нов на кристалле никел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При облучении кристалла ускоренным пуч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электронов на экране  за кристаллом наблюдается регулярное чередование темных и светлых колец, аналогичное дифракционной картине от рентгеновских луч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3"/>
          <p:cNvSpPr/>
          <p:nvPr/>
        </p:nvSpPr>
        <p:spPr>
          <a:xfrm>
            <a:off x="285840" y="2142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нергия фотон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" descr=""/>
          <p:cNvPicPr/>
          <p:nvPr/>
        </p:nvPicPr>
        <p:blipFill>
          <a:blip r:embed="rId1"/>
          <a:stretch/>
        </p:blipFill>
        <p:spPr>
          <a:xfrm>
            <a:off x="3429000" y="857160"/>
            <a:ext cx="2503440" cy="11430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0" y="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2"/>
          <a:stretch/>
        </p:blipFill>
        <p:spPr>
          <a:xfrm>
            <a:off x="3352680" y="1981080"/>
            <a:ext cx="1768680" cy="64296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6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1"/>
          <p:cNvSpPr/>
          <p:nvPr/>
        </p:nvSpPr>
        <p:spPr>
          <a:xfrm>
            <a:off x="5715000" y="278604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 фо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3"/>
          <a:stretch/>
        </p:blipFill>
        <p:spPr>
          <a:xfrm>
            <a:off x="857160" y="3929040"/>
            <a:ext cx="4367160" cy="107172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5"/>
          <p:cNvSpPr/>
          <p:nvPr/>
        </p:nvSpPr>
        <p:spPr>
          <a:xfrm>
            <a:off x="357120" y="56437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мпульс фото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0" descr=""/>
          <p:cNvPicPr/>
          <p:nvPr/>
        </p:nvPicPr>
        <p:blipFill>
          <a:blip r:embed="rId4"/>
          <a:stretch/>
        </p:blipFill>
        <p:spPr>
          <a:xfrm>
            <a:off x="4286160" y="5214960"/>
            <a:ext cx="3643560" cy="11952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12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3"/>
          <p:cNvSpPr/>
          <p:nvPr/>
        </p:nvSpPr>
        <p:spPr>
          <a:xfrm>
            <a:off x="285840" y="21420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налогично, для любой части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массой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вижущейся со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коростью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0" y="4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351000"/>
            <a:ext cx="8763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3500280" y="785880"/>
            <a:ext cx="1071720" cy="11826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6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0" y="42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3"/>
          <p:cNvSpPr/>
          <p:nvPr/>
        </p:nvSpPr>
        <p:spPr>
          <a:xfrm>
            <a:off x="3143160" y="2214720"/>
            <a:ext cx="40197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лина волны де Брой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4"/>
          <p:cNvSpPr/>
          <p:nvPr/>
        </p:nvSpPr>
        <p:spPr>
          <a:xfrm>
            <a:off x="500040" y="4071960"/>
            <a:ext cx="8143920" cy="1191240"/>
          </a:xfrm>
          <a:prstGeom prst="rect">
            <a:avLst/>
          </a:prstGeom>
          <a:solidFill>
            <a:srgbClr val="fdc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Движение частицы подобно волновому процессу с длиной волны </a:t>
            </a:r>
            <a:r>
              <a:rPr b="1" lang="el-GR" sz="2400" spc="-1" strike="noStrike">
                <a:solidFill>
                  <a:srgbClr val="009900"/>
                </a:solidFill>
                <a:latin typeface="Arial"/>
              </a:rPr>
              <a:t>λ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7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1571400" cy="11937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540" name="Text Box 18"/>
          <p:cNvSpPr/>
          <p:nvPr/>
        </p:nvSpPr>
        <p:spPr>
          <a:xfrm>
            <a:off x="685800" y="5334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3" descr=""/>
          <p:cNvPicPr/>
          <p:nvPr/>
        </p:nvPicPr>
        <p:blipFill>
          <a:blip r:embed="rId3"/>
          <a:stretch/>
        </p:blipFill>
        <p:spPr>
          <a:xfrm>
            <a:off x="1071720" y="1058760"/>
            <a:ext cx="1643040" cy="6858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25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Прямоугольник 9"/>
          <p:cNvSpPr/>
          <p:nvPr/>
        </p:nvSpPr>
        <p:spPr>
          <a:xfrm>
            <a:off x="4929120" y="1500120"/>
            <a:ext cx="4000680" cy="3448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фракция нейтронов на кристал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6"/>
          <p:cNvSpPr/>
          <p:nvPr/>
        </p:nvSpPr>
        <p:spPr>
          <a:xfrm>
            <a:off x="214200" y="1500120"/>
            <a:ext cx="4572000" cy="3448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фракционная картина, полученная при взаимодействии потока электронов с поликристаллической фоль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3"/>
          <p:cNvSpPr/>
          <p:nvPr/>
        </p:nvSpPr>
        <p:spPr>
          <a:xfrm>
            <a:off x="214200" y="14292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пытах Томсона и советского ученого П.С.Тартаковского были получен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онограм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пропускании потока электронов через металлическую фоль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4"/>
          <p:cNvSpPr/>
          <p:nvPr/>
        </p:nvSpPr>
        <p:spPr>
          <a:xfrm>
            <a:off x="1073880" y="1500120"/>
            <a:ext cx="33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) Электрон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1857240" y="2000160"/>
            <a:ext cx="1805040" cy="1643040"/>
          </a:xfrm>
          <a:prstGeom prst="rect">
            <a:avLst/>
          </a:prstGeom>
          <a:ln w="0">
            <a:noFill/>
          </a:ln>
        </p:spPr>
      </p:pic>
      <p:sp>
        <p:nvSpPr>
          <p:cNvPr id="549" name="Прямоугольник 7"/>
          <p:cNvSpPr/>
          <p:nvPr/>
        </p:nvSpPr>
        <p:spPr>
          <a:xfrm>
            <a:off x="5359680" y="150012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) Нейтрон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3" descr="J:\Медицинская и биологическая физика курс лекций с задачами Федорова Фаустов\Презентации Галина Вячеславовна\4 Волн. св\image001[1].jpg"/>
          <p:cNvPicPr/>
          <p:nvPr/>
        </p:nvPicPr>
        <p:blipFill>
          <a:blip r:embed="rId2"/>
          <a:stretch/>
        </p:blipFill>
        <p:spPr>
          <a:xfrm>
            <a:off x="5786280" y="1928880"/>
            <a:ext cx="2428920" cy="198576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1"/>
          <p:cNvSpPr/>
          <p:nvPr/>
        </p:nvSpPr>
        <p:spPr>
          <a:xfrm>
            <a:off x="0" y="492624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Позднее Тартаковский доказал, что волновыми свойствами обладает не только пучок электронов, но и один электрон в отд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обные картины наблюдали и  для других частиц – нейтронов, протонов, атомов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1999 году обнаружена интерференция фуллеренов и биомолеку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Прямая со стрелкой 14"/>
          <p:cNvCxnSpPr>
            <a:stCxn id="546" idx="2"/>
            <a:endCxn id="545" idx="0"/>
          </p:cNvCxnSpPr>
          <p:nvPr/>
        </p:nvCxnSpPr>
        <p:spPr>
          <a:xfrm flipH="1">
            <a:off x="2499840" y="1149480"/>
            <a:ext cx="2037600" cy="351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53" name="Прямая со стрелкой 10"/>
          <p:cNvCxnSpPr>
            <a:stCxn id="546" idx="2"/>
            <a:endCxn id="544" idx="0"/>
          </p:cNvCxnSpPr>
          <p:nvPr/>
        </p:nvCxnSpPr>
        <p:spPr>
          <a:xfrm>
            <a:off x="4536000" y="1149480"/>
            <a:ext cx="2392920" cy="351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71280" y="380880"/>
            <a:ext cx="921528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ксперименты, свидетельствующ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 волновых и корпускулярных свойствах электрон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214200" y="2000160"/>
          <a:ext cx="8643960" cy="4500720"/>
        </p:xfrm>
        <a:graphic>
          <a:graphicData uri="http://schemas.openxmlformats.org/drawingml/2006/table">
            <a:tbl>
              <a:tblPr/>
              <a:tblGrid>
                <a:gridCol w="2881440"/>
                <a:gridCol w="2881440"/>
                <a:gridCol w="2881080"/>
              </a:tblGrid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сследуемо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я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олнов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рпускулярн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фр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66ff"/>
                          </a:solidFill>
                          <a:latin typeface="Arial"/>
                          <a:ea typeface="Arial"/>
                        </a:rPr>
                        <a:t>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лом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терферен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66ff"/>
                          </a:solidFill>
                          <a:latin typeface="Arial"/>
                          <a:ea typeface="Arial"/>
                        </a:rPr>
                        <a:t>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тоэффе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ff"/>
                          </a:solidFill>
                          <a:latin typeface="Arial"/>
                          <a:ea typeface="Arial"/>
                        </a:rPr>
                        <a:t>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4"/>
          <p:cNvSpPr/>
          <p:nvPr/>
        </p:nvSpPr>
        <p:spPr>
          <a:xfrm>
            <a:off x="357120" y="571680"/>
            <a:ext cx="8481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ет электронно-оптическое изображение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5"/>
          <p:cNvSpPr/>
          <p:nvPr/>
        </p:nvSpPr>
        <p:spPr>
          <a:xfrm>
            <a:off x="177840" y="2133720"/>
            <a:ext cx="8661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ситель информации об объек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электро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ускорении электр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6"/>
          <p:cNvSpPr/>
          <p:nvPr/>
        </p:nvSpPr>
        <p:spPr>
          <a:xfrm>
            <a:off x="357120" y="1285920"/>
            <a:ext cx="832968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Использует волновые свойства частиц для получения увеличенных изображений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1" descr=""/>
          <p:cNvPicPr/>
          <p:nvPr/>
        </p:nvPicPr>
        <p:blipFill>
          <a:blip r:embed="rId1"/>
          <a:stretch/>
        </p:blipFill>
        <p:spPr>
          <a:xfrm>
            <a:off x="642960" y="3214800"/>
            <a:ext cx="1333440" cy="78084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3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2"/>
          <a:stretch/>
        </p:blipFill>
        <p:spPr>
          <a:xfrm>
            <a:off x="500040" y="4000680"/>
            <a:ext cx="2911320" cy="150012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6"/>
          <p:cNvSpPr/>
          <p:nvPr/>
        </p:nvSpPr>
        <p:spPr>
          <a:xfrm>
            <a:off x="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7" descr=""/>
          <p:cNvPicPr/>
          <p:nvPr/>
        </p:nvPicPr>
        <p:blipFill>
          <a:blip r:embed="rId3"/>
          <a:stretch/>
        </p:blipFill>
        <p:spPr>
          <a:xfrm>
            <a:off x="0" y="5562720"/>
            <a:ext cx="4237200" cy="10713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9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6"/>
          <p:cNvSpPr/>
          <p:nvPr/>
        </p:nvSpPr>
        <p:spPr>
          <a:xfrm>
            <a:off x="4572000" y="4952880"/>
            <a:ext cx="3786120" cy="1557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ряд элект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сса элект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коряющее напря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ютка</dc:creator>
  <dc:description/>
  <dc:language>en-US</dc:language>
  <cp:lastModifiedBy>Mayakov</cp:lastModifiedBy>
  <dcterms:modified xsi:type="dcterms:W3CDTF">2011-04-05T06:15:11Z</dcterms:modified>
  <cp:revision>59</cp:revision>
  <dc:subject/>
  <dc:title>Волновые свойства частиц</dc:title>
</cp:coreProperties>
</file>