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39.png" ContentType="image/png"/>
  <Override PartName="/ppt/media/image22.jpeg" ContentType="image/jpeg"/>
  <Override PartName="/ppt/media/image3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43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F98-E7E1-43BB-A08E-FD9725B380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8A3A-3DA4-42B9-8900-14A0382C87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DFC-980B-498D-9DF1-BF43B6DC41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A93-5678-44F7-8970-7F71E802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9BB-4394-4EA5-B72E-EFDDF86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B70-E51F-4E5A-B889-FAFA5569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771-A205-42A9-9983-12A9C0C3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AAA-743A-4A3A-A028-08131FF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626-1E61-40EE-AC0A-41231D8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D48-82E0-43C8-A1C5-AE0E72B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762-9F5E-48A8-88A4-2ADD97C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25E-970D-49E1-8ACE-510739B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29F-ADE4-4B13-A593-5F53C802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6D1-6275-44A8-B94D-5542C31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CA8-8615-40F2-887B-58805DE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841-AFCB-40F9-8ACB-91CFDCF407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304920" y="16765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ИНТЕРФЕРЕНЦИЯ И ДИФРАКЦИЯ СВЕТА.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ПОЛЯРИЗАЦ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рференционный микроск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3276720"/>
            <a:ext cx="4208400" cy="2133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52280" y="7621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четание двулучевого интерферометра и микроскопа. Используют в биологии для измерения показателя преломления, концентрации сухого вещества, толщины прозрачных микрообъе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267080" y="320040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 света раздваивается в точке А, один луч проходит через прозрачных микрообъект М, а другой – вне его. В точке Д лучи соединяются и интерферируют. По результату интерференции судят об измеряемом парамет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046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икрофотографии, полученные методом интерференционной микроскоп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фракция вол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68580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явление отклонения от прямолинейного направления распространения вблизи границы препятствия. Дифракцией объясняется огибание волной препятствий, размеры которых одного порядка с длиной вол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U:\Презинтации лекций\Наталья Васильевна\Презентации\800px-Interference-colors.jpg"/>
          <p:cNvPicPr/>
          <p:nvPr/>
        </p:nvPicPr>
        <p:blipFill>
          <a:blip r:embed="rId1"/>
          <a:stretch/>
        </p:blipFill>
        <p:spPr>
          <a:xfrm>
            <a:off x="228600" y="31240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25780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D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диск как отражающая дифракционная решетка. Интерференц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657600" cy="4257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Гюйгенса-Френ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114800" y="609480"/>
            <a:ext cx="5029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писания  дифракции на щели в параллельных лучах применяется принцип Гюйгенса – Френе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нцип Гюйген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ая точка волнового фронта является источником вторичных волн, а их огибающая – фронт волны в следующий момент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рен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полнил это по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вторичные волны когерентны и интерфериру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фракционная картина – результат интерференции вторичн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4920" y="10666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определения результата дифракции в некоторой точке пространства , Френель предложил разбивать волновую поверхность на отдельные участки (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зоны Френел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),  расположенные таким образом, чтобы волны, посылаемые двумя соседними зонами в данную точку пространства,  приходили в противофаз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фракция на щели в параллельных луч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4919760"/>
            <a:ext cx="4419720" cy="19227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словие дифракционного максиму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228600" y="5715000"/>
                <a:ext cx="3664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5"/>
          <p:cNvSpPr/>
          <p:nvPr/>
        </p:nvSpPr>
        <p:spPr>
          <a:xfrm>
            <a:off x="4952880" y="4919760"/>
            <a:ext cx="4035600" cy="19227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словие дифракционного миниму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5486400" y="5867280"/>
                <a:ext cx="333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7"/>
          <p:cNvSpPr/>
          <p:nvPr/>
        </p:nvSpPr>
        <p:spPr>
          <a:xfrm>
            <a:off x="5791320" y="9144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ина ще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между нормалью к щели и направлением вторичных лу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791320" y="1371600"/>
                <a:ext cx="3045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1"/>
          <a:stretch/>
        </p:blipFill>
        <p:spPr>
          <a:xfrm>
            <a:off x="304920" y="581040"/>
            <a:ext cx="533376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фракционная решё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0" y="99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тическое устройство, представляющее собой совокупность большого числа  узких параллельных щелей, на которых возможна дифракция света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6477120" y="1905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907000" y="4038480"/>
            <a:ext cx="29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sinα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± k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0" y="3352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формула дифракционной решётки – условие главных максимум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636240" y="27432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ифракционная решё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80880" y="4724280"/>
            <a:ext cx="8534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риод дифракционной решётки – суммарная ширина щели и непрозрачного промежутка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+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угол между перпендикуляром к решётке и направлением на дифракционный максиму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1, 2,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 - порядок дифракционных максиму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24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photo.mipt.ru/authors/stalker/reports/official_reports/start_experim/PICT09971.jpg"/>
          <p:cNvPicPr/>
          <p:nvPr/>
        </p:nvPicPr>
        <p:blipFill>
          <a:blip r:embed="rId1"/>
          <a:stretch/>
        </p:blipFill>
        <p:spPr>
          <a:xfrm>
            <a:off x="1219320" y="849240"/>
            <a:ext cx="6858000" cy="6008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ложение белого света в спектр с помощью дифракционной  реш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295280" y="74520"/>
            <a:ext cx="701064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-36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НТЕРФЕРЕНЦ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явление сложения когерентных волн, при котором происходит их взаимное усиление в одних точках пространства и ослабление в друг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герент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ся волны, имеющие одинаковую частоту и постоянную во времени разность ф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U:\Презинтации лекций\Наталья Васильевна\Презентации\Wavepanel.png"/>
          <p:cNvPicPr/>
          <p:nvPr/>
        </p:nvPicPr>
        <p:blipFill>
          <a:blip r:embed="rId1"/>
          <a:stretch/>
        </p:blipFill>
        <p:spPr>
          <a:xfrm>
            <a:off x="228600" y="37339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505320" y="373392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Times New Roman"/>
              </a:rPr>
              <a:t>Картина интерференции двух круговых когерентных волн, в зависимости от длины волны и расстояния между источниками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∆ φ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0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гловая дисперс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– численно равна угловому расстоянию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α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жду двумя линиями спектра, длины волн которых различаются на единицу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1"/>
              <p:cNvSpPr txBox="1"/>
              <p:nvPr/>
            </p:nvSpPr>
            <p:spPr>
              <a:xfrm>
                <a:off x="2514600" y="3429000"/>
                <a:ext cx="30481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Text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ХАРАКТЕРИСТИКИ ДИФРАКЦИОННОЙ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86000" cy="264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3238560" cy="2838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итерий Рэле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28600" y="6094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ктральные линии разрешаются, если между двумя дифракционными максимумами одинаковой интенсивности находится область, где суммарная интенсивность составляет 80% от максимальной. При этом, согласно Рэлею максимум одной линии совпадает с ближайшим минимумом дру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5800" y="6396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ммарная интенсивность - штриховая прям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80880" y="5410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разрешённость двух ли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495680" y="54100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ая разрешённость: максимум одной линии совпадает с ближайшим минимумом друг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ЫЕ ХАРАКТЕРИСТИКИ ДИФРАКЦИОННОЙ РЕШ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90920" y="2743200"/>
                <a:ext cx="1641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Δ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5105520" y="3048120"/>
                <a:ext cx="1760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Text Box 13"/>
          <p:cNvSpPr/>
          <p:nvPr/>
        </p:nvSpPr>
        <p:spPr>
          <a:xfrm>
            <a:off x="0" y="1066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азрешающая 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отношение длины волны к наименьшему интервалу длин волн, которые видны отд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0" y="464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спект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щел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ракционной реш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нтгеноструктурный 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0" y="6858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исследования структуры вещества по дифракции рентгеновского излучения на анализируемом объек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ическую решётку вещества можно представить как три взаимно перпендикулярные дифракционные решётки с различными периодами, пр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3332160" y="2820960"/>
                <a:ext cx="16477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Box 5"/>
          <p:cNvSpPr/>
          <p:nvPr/>
        </p:nvSpPr>
        <p:spPr>
          <a:xfrm>
            <a:off x="228600" y="34290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асстояние между ато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мер ат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28600" y="4419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для наблюдения дифракции необходи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~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сстояние между атомами в кристал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, удовлетворяющие этим условиям электромагнитные волны – это рентгеновское излу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664848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нтгеноструктурный 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2666880" y="1447920"/>
                <a:ext cx="34448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k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Box 4"/>
          <p:cNvSpPr/>
          <p:nvPr/>
        </p:nvSpPr>
        <p:spPr>
          <a:xfrm>
            <a:off x="0" y="24382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межплоскостное расстоя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ол сколь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е дифракционного максимума – формула Вульфа-Брег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80880" y="36576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нтгеновское излу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Дебаеграмма сплава Fe - Al"/>
          <p:cNvPicPr/>
          <p:nvPr/>
        </p:nvPicPr>
        <p:blipFill>
          <a:blip r:embed="rId1"/>
          <a:stretch/>
        </p:blipFill>
        <p:spPr>
          <a:xfrm>
            <a:off x="228600" y="4648320"/>
            <a:ext cx="476244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22860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баеграмма сп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 -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http://www.vokrugsveta.ru/img/cmn/2009/12/21/010.jpg"/>
          <p:cNvPicPr/>
          <p:nvPr/>
        </p:nvPicPr>
        <p:blipFill>
          <a:blip r:embed="rId2"/>
          <a:stretch/>
        </p:blipFill>
        <p:spPr>
          <a:xfrm>
            <a:off x="228600" y="152280"/>
            <a:ext cx="285768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124080" y="1522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ракционный портрет белка, полученный методами рентгеноструктурного анализа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upload.wikimedia.org/wikipedia/ru/9/93/FotoWilkins.jpg"/>
          <p:cNvPicPr/>
          <p:nvPr/>
        </p:nvPicPr>
        <p:blipFill>
          <a:blip r:embed="rId3"/>
          <a:stretch/>
        </p:blipFill>
        <p:spPr>
          <a:xfrm>
            <a:off x="6095880" y="22860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6095880" y="34290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нтгенограмма волокон ДНК кишечной палочки, полученная Уилкинс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429000" cy="2782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0" y="1828800"/>
            <a:ext cx="5562720" cy="28656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5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лограф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етод записи и воспроизведения изображения, основанный на интерференции и дифракции во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олографии фиксируются и воспроизводятся сведения об объекте с учётом амплитуд и фаз волн (при фотографии фиксируются только амплитуд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228600" y="51814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- лазер 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гнальная вол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порная волна; А – точечный объек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 – зеркало; Ф – фотопласти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228600" y="4648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гистрация гол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562720" y="4495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сстановление голографического из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9"/>
          <p:cNvSpPr/>
          <p:nvPr/>
        </p:nvSpPr>
        <p:spPr>
          <a:xfrm>
            <a:off x="5562720" y="553392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`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Волна формирующая мнимое изображение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``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на создающая действительное изобра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менение голограф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лучение объёмных изображ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льтразвуковая голография: получив голограмму в ультразвуковых волнах воспроизводят в световых (диагности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олографический микроскоп – увеличенное изображение получается если голограмму, записанную с плоской опорной волны осветить расходящейся сферической вол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CAVEman – медицинская система 4D-голограмм"/>
          <p:cNvPicPr/>
          <p:nvPr/>
        </p:nvPicPr>
        <p:blipFill>
          <a:blip r:embed="rId1"/>
          <a:stretch/>
        </p:blipFill>
        <p:spPr>
          <a:xfrm>
            <a:off x="0" y="3276720"/>
            <a:ext cx="3540240" cy="2361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3809880" y="449568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VEman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дицинская система 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лограм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езультатам УЗИ, рентгенов, биопсий и других медицинских тестов, система способна воссоздавать модели тела пациен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moymalush.ru/images/embrion14.jpg"/>
          <p:cNvPicPr/>
          <p:nvPr/>
        </p:nvPicPr>
        <p:blipFill>
          <a:blip r:embed="rId1"/>
          <a:stretch/>
        </p:blipFill>
        <p:spPr>
          <a:xfrm>
            <a:off x="152280" y="990720"/>
            <a:ext cx="2286000" cy="20113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6"/>
          <p:cNvSpPr/>
          <p:nvPr/>
        </p:nvSpPr>
        <p:spPr>
          <a:xfrm>
            <a:off x="2590920" y="99072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мер плода на 8-й неделе беременности около 3-х с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http://moymalush.ru/images/month4.jpg"/>
          <p:cNvPicPr/>
          <p:nvPr/>
        </p:nvPicPr>
        <p:blipFill>
          <a:blip r:embed="rId2"/>
          <a:stretch/>
        </p:blipFill>
        <p:spPr>
          <a:xfrm>
            <a:off x="6324480" y="914400"/>
            <a:ext cx="2514600" cy="306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moymalush.ru/images/month5.jpg"/>
          <p:cNvPicPr/>
          <p:nvPr/>
        </p:nvPicPr>
        <p:blipFill>
          <a:blip r:embed="rId3"/>
          <a:stretch/>
        </p:blipFill>
        <p:spPr>
          <a:xfrm>
            <a:off x="838080" y="3013200"/>
            <a:ext cx="2627280" cy="38448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1"/>
          <p:cNvSpPr/>
          <p:nvPr/>
        </p:nvSpPr>
        <p:spPr>
          <a:xfrm>
            <a:off x="6324480" y="40384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4 месяца длина плода уже около 16 сантиметров, он  умеет открывать и закрывать ро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2"/>
          <p:cNvSpPr/>
          <p:nvPr/>
        </p:nvSpPr>
        <p:spPr>
          <a:xfrm>
            <a:off x="3657600" y="46116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24-25 недель беременности длина плода уже составляет 30 сантиметров, а масса - около 700 гра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нутриутробные фотографии плода, полученные методом ультразвуковой гол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ляризация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7238880" y="1073160"/>
                <a:ext cx="574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4495680" y="1523880"/>
                <a:ext cx="38124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7162920" y="2895480"/>
                <a:ext cx="574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6553080" y="2886120"/>
                <a:ext cx="4572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6" name="TextBox 2"/>
          <p:cNvSpPr/>
          <p:nvPr/>
        </p:nvSpPr>
        <p:spPr>
          <a:xfrm>
            <a:off x="152280" y="76212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й свет – это электромагнитная волна в которой векторы напряженности электрического поля       и напряженности магнитного поля     могут лежать в любых плоскостях, перпендикулярных вектору скорости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-поляризованный (линейно-поляризованный) свет – это электромагнитная волна в которой векторы      и      лежат в строго определённых плоско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1143000" y="3666960"/>
            <a:ext cx="64771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upload.wikimedia.org/wikipedia/commons/9/98/Young_experience.jpg"/>
          <p:cNvPicPr/>
          <p:nvPr/>
        </p:nvPicPr>
        <p:blipFill>
          <a:blip r:embed="rId1"/>
          <a:stretch/>
        </p:blipFill>
        <p:spPr>
          <a:xfrm>
            <a:off x="0" y="609480"/>
            <a:ext cx="8326440" cy="6019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ыт Ю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852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3"/>
          <p:cNvSpPr/>
          <p:nvPr/>
        </p:nvSpPr>
        <p:spPr>
          <a:xfrm>
            <a:off x="5257800" y="228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ый с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410360" cy="609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4"/>
          <p:cNvSpPr/>
          <p:nvPr/>
        </p:nvSpPr>
        <p:spPr>
          <a:xfrm>
            <a:off x="4876920" y="1219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остью линейно поляризованный свет, в плоскости параллельной плоскости па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2895480"/>
            <a:ext cx="4651200" cy="4572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5"/>
          <p:cNvSpPr/>
          <p:nvPr/>
        </p:nvSpPr>
        <p:spPr>
          <a:xfrm>
            <a:off x="4800600" y="236232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остью линейно поляризованный свет, в плоскости перпендикулярной плоскости па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04920" y="4038480"/>
            <a:ext cx="449892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90"/>
          <p:cNvSpPr/>
          <p:nvPr/>
        </p:nvSpPr>
        <p:spPr>
          <a:xfrm>
            <a:off x="4724280" y="533412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ично линейно поляризованный свет, преимущественно в плоскости, перпендикулярной плоскости па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304920" y="5638680"/>
            <a:ext cx="4395600" cy="609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1"/>
          <p:cNvSpPr/>
          <p:nvPr/>
        </p:nvSpPr>
        <p:spPr>
          <a:xfrm>
            <a:off x="4648320" y="38098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ично линейно поляризованный свет, преимущественно в плоскости параллельной плоскости па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ляризация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0" y="6858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ляризат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тройство позволяющее получать поляризованный св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нализат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поляризатор используемый для анализа поляризованного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4952880" cy="2376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228600" y="2590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ляризатор – призма Нико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0" y="2286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ы получения поляризованного све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ускание света через кристаллы обладающими свойством дихроизма: способностью поглощать свет одной поляризацией (турмалин, герапати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жение и преломление на границе двух диэлектр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ойное лучепрелом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304920" y="3579840"/>
            <a:ext cx="3504960" cy="2965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2286000" cy="20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6477120" y="3657600"/>
            <a:ext cx="2477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кон Малю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514600" y="609480"/>
                <a:ext cx="3498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TextBox 3"/>
          <p:cNvSpPr/>
          <p:nvPr/>
        </p:nvSpPr>
        <p:spPr>
          <a:xfrm>
            <a:off x="304920" y="144792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нсивность света, вышедшего из анализ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тенсивность света падающего на анализ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между плоскостями анализатора и поляриза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1371600" y="2550960"/>
            <a:ext cx="51055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0"/>
          <p:cNvSpPr/>
          <p:nvPr/>
        </p:nvSpPr>
        <p:spPr>
          <a:xfrm>
            <a:off x="304920" y="2057400"/>
            <a:ext cx="8610480" cy="2379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ол поворота плоскости поляр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и актив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28600" y="762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щества способные вращать плоскость поляризации плоско поляризованного света. ОАВ: кварц, раствор сахара, пары камфары, скипидар и др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3200400" y="2286000"/>
                <a:ext cx="2152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2438280" y="4800600"/>
                <a:ext cx="3659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Box 6"/>
          <p:cNvSpPr/>
          <p:nvPr/>
        </p:nvSpPr>
        <p:spPr>
          <a:xfrm>
            <a:off x="20574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аство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380880" y="565776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центрация оптически активного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щина слоя раств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вра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380880" y="312408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угол поворота плоскости поля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пройденное светом в веще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тоянная вращения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04920" y="304920"/>
            <a:ext cx="8610480" cy="55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дельное вращение вещества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природы вещества и температуры, численно равно увеличенному в 100 раз углу поворота плоскости поляризации слоем раствора толщиной 10 см при концентрации вещества 1 грамм на 1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твора,  температуре 20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и длине волны св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589 н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α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братно пропорционально квадрату длины волны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2521080"/>
            <a:ext cx="3946680" cy="43369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ляри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419720" y="2590920"/>
            <a:ext cx="472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– Освет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– Поляриз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– Кювета с исследуемым вещест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– Анализа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– Нони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– Окуля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0" y="6858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етод исследования, основанный на определении угла поворота плоскости поляризации поляризованного света, при прохождении его через оптически активное веще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ая схема полярим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TextBox 6" descr=""/>
          <p:cNvPicPr/>
          <p:nvPr/>
        </p:nvPicPr>
        <p:blipFill>
          <a:blip r:embed="rId1"/>
          <a:stretch/>
        </p:blipFill>
        <p:spPr>
          <a:xfrm>
            <a:off x="-6480" y="4863960"/>
            <a:ext cx="9156960" cy="200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1600200" y="2765520"/>
            <a:ext cx="5791320" cy="4092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0" y="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птическая разность хо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ветовых лучей: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δ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∆l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δ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тическая разность хода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ометрическая разность хода луче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ь прелом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81952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герентные источники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ум интерференц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971800" cy="995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962520" cy="2066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648320" y="4267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ловие максимума интерферен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334120" y="5181480"/>
            <a:ext cx="1904760" cy="764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·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5029200" y="3657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словие минимума интерферен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ческая разность х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ое число, порядок интерференционного максим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а вол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4673520" cy="1955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герентные источники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5334120" y="4724280"/>
            <a:ext cx="3581280" cy="764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(2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)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λ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2438280"/>
            <a:ext cx="4838760" cy="4419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рферомет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рительный прибор, в котором используется интерференция волн. Интерферометры бывают для: звуковых и электромагнитных волн. Наиболее широко применяют оптические интерферомет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334120" y="2703600"/>
            <a:ext cx="380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нтерферометр Майкельсо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сточник монохроматическ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лоскопараллельная полупрозрачн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озрачная плас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, II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ерк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рферометры применяют для определ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" y="13716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ин волн с высокой степенью точ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лых расстоя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я преломления вещест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 обработки оптических поверх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рости распространения вол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лщины прозрачных биологических микрообъек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я между излучателем и отражающим тел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nterferometer Sorfware"/>
          <p:cNvPicPr/>
          <p:nvPr/>
        </p:nvPicPr>
        <p:blipFill>
          <a:blip r:embed="rId1"/>
          <a:stretch/>
        </p:blipFill>
        <p:spPr>
          <a:xfrm>
            <a:off x="838080" y="1166760"/>
            <a:ext cx="7543800" cy="5691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зучение качества поверхности с помощью интерфером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yakov</cp:lastModifiedBy>
  <dcterms:modified xsi:type="dcterms:W3CDTF">2011-03-16T08:01:43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